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8120" y="45475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484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5852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4928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812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45852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74928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-360" y="520200"/>
            <a:ext cx="9815400" cy="71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484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0000" y="7056360"/>
            <a:ext cx="1092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A7185E8D-092F-4464-888D-D6CE41D57F0C}" type="slidenum">
              <a:rPr b="0" lang="en-GB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40"/>
            <a:ext cx="10069560" cy="241200"/>
            <a:chOff x="0" y="84240"/>
            <a:chExt cx="10069560" cy="241200"/>
          </a:xfrm>
        </p:grpSpPr>
        <p:sp>
          <p:nvSpPr>
            <p:cNvPr id="2" name=""/>
            <p:cNvSpPr/>
            <p:nvPr/>
          </p:nvSpPr>
          <p:spPr>
            <a:xfrm>
              <a:off x="0" y="84240"/>
              <a:ext cx="10069560" cy="241200"/>
            </a:xfrm>
            <a:prstGeom prst="roundRect">
              <a:avLst>
                <a:gd name="adj" fmla="val 6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3641760" y="146160"/>
            <a:ext cx="3397320" cy="338040"/>
            <a:chOff x="3641760" y="146160"/>
            <a:chExt cx="3397320" cy="338040"/>
          </a:xfrm>
        </p:grpSpPr>
        <p:sp>
          <p:nvSpPr>
            <p:cNvPr id="4" name=""/>
            <p:cNvSpPr/>
            <p:nvPr/>
          </p:nvSpPr>
          <p:spPr>
            <a:xfrm>
              <a:off x="3641760" y="146160"/>
              <a:ext cx="33973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641760" y="146160"/>
              <a:ext cx="3392280" cy="333360"/>
              <a:chOff x="3641760" y="146160"/>
              <a:chExt cx="3392280" cy="333360"/>
            </a:xfrm>
          </p:grpSpPr>
          <p:sp>
            <p:nvSpPr>
              <p:cNvPr id="6" name=""/>
              <p:cNvSpPr/>
              <p:nvPr/>
            </p:nvSpPr>
            <p:spPr>
              <a:xfrm>
                <a:off x="3641760" y="146160"/>
                <a:ext cx="339228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3641760" y="146160"/>
                <a:ext cx="3389400" cy="330120"/>
                <a:chOff x="3641760" y="146160"/>
                <a:chExt cx="3389400" cy="33012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3641760" y="146160"/>
                  <a:ext cx="3389400" cy="330120"/>
                </a:xfrm>
                <a:prstGeom prst="roundRect">
                  <a:avLst>
                    <a:gd name="adj" fmla="val 47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" name=""/>
                <p:cNvGrpSpPr/>
                <p:nvPr/>
              </p:nvGrpSpPr>
              <p:grpSpPr>
                <a:xfrm>
                  <a:off x="3641760" y="146160"/>
                  <a:ext cx="3387600" cy="328680"/>
                  <a:chOff x="3641760" y="146160"/>
                  <a:chExt cx="3387600" cy="3286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641760" y="146160"/>
                    <a:ext cx="3387600" cy="328680"/>
                  </a:xfrm>
                  <a:prstGeom prst="roundRect">
                    <a:avLst>
                      <a:gd name="adj" fmla="val 4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" name=""/>
                  <p:cNvGrpSpPr/>
                  <p:nvPr/>
                </p:nvGrpSpPr>
                <p:grpSpPr>
                  <a:xfrm>
                    <a:off x="3641760" y="146160"/>
                    <a:ext cx="3387600" cy="328680"/>
                    <a:chOff x="3641760" y="146160"/>
                    <a:chExt cx="3387600" cy="328680"/>
                  </a:xfrm>
                </p:grpSpPr>
                <p:sp>
                  <p:nvSpPr>
                    <p:cNvPr id="12" name=""/>
                    <p:cNvSpPr/>
                    <p:nvPr/>
                  </p:nvSpPr>
                  <p:spPr>
                    <a:xfrm>
                      <a:off x="3641760" y="146160"/>
                      <a:ext cx="3387600" cy="3286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" name=""/>
                    <p:cNvSpPr/>
                    <p:nvPr/>
                  </p:nvSpPr>
                  <p:spPr>
                    <a:xfrm>
                      <a:off x="4055760" y="146160"/>
                      <a:ext cx="2559600" cy="2314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MOD Meeting, Spring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4" name=""/>
          <p:cNvGrpSpPr/>
          <p:nvPr/>
        </p:nvGrpSpPr>
        <p:grpSpPr>
          <a:xfrm>
            <a:off x="3460680" y="7058160"/>
            <a:ext cx="4006800" cy="348480"/>
            <a:chOff x="3460680" y="7058160"/>
            <a:chExt cx="4006800" cy="348480"/>
          </a:xfrm>
        </p:grpSpPr>
        <p:sp>
          <p:nvSpPr>
            <p:cNvPr id="15" name=""/>
            <p:cNvSpPr/>
            <p:nvPr/>
          </p:nvSpPr>
          <p:spPr>
            <a:xfrm>
              <a:off x="3460680" y="7058160"/>
              <a:ext cx="400680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" name=""/>
            <p:cNvGrpSpPr/>
            <p:nvPr/>
          </p:nvGrpSpPr>
          <p:grpSpPr>
            <a:xfrm>
              <a:off x="3460680" y="7058160"/>
              <a:ext cx="4002120" cy="348480"/>
              <a:chOff x="3460680" y="7058160"/>
              <a:chExt cx="4002120" cy="348480"/>
            </a:xfrm>
          </p:grpSpPr>
          <p:sp>
            <p:nvSpPr>
              <p:cNvPr id="17" name=""/>
              <p:cNvSpPr/>
              <p:nvPr/>
            </p:nvSpPr>
            <p:spPr>
              <a:xfrm>
                <a:off x="3460680" y="7058160"/>
                <a:ext cx="40021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" name=""/>
              <p:cNvGrpSpPr/>
              <p:nvPr/>
            </p:nvGrpSpPr>
            <p:grpSpPr>
              <a:xfrm>
                <a:off x="3460680" y="7058160"/>
                <a:ext cx="3998880" cy="348480"/>
                <a:chOff x="3460680" y="7058160"/>
                <a:chExt cx="3998880" cy="348480"/>
              </a:xfrm>
            </p:grpSpPr>
            <p:sp>
              <p:nvSpPr>
                <p:cNvPr id="19" name=""/>
                <p:cNvSpPr/>
                <p:nvPr/>
              </p:nvSpPr>
              <p:spPr>
                <a:xfrm>
                  <a:off x="3460680" y="7058160"/>
                  <a:ext cx="3998880" cy="330120"/>
                </a:xfrm>
                <a:prstGeom prst="roundRect">
                  <a:avLst>
                    <a:gd name="adj" fmla="val 47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" name=""/>
                <p:cNvGrpSpPr/>
                <p:nvPr/>
              </p:nvGrpSpPr>
              <p:grpSpPr>
                <a:xfrm>
                  <a:off x="3460680" y="7058160"/>
                  <a:ext cx="3997440" cy="348480"/>
                  <a:chOff x="3460680" y="7058160"/>
                  <a:chExt cx="3997440" cy="348480"/>
                </a:xfrm>
              </p:grpSpPr>
              <p:sp>
                <p:nvSpPr>
                  <p:cNvPr id="21" name=""/>
                  <p:cNvSpPr/>
                  <p:nvPr/>
                </p:nvSpPr>
                <p:spPr>
                  <a:xfrm>
                    <a:off x="3460680" y="7058160"/>
                    <a:ext cx="3997440" cy="328320"/>
                  </a:xfrm>
                  <a:prstGeom prst="roundRect">
                    <a:avLst>
                      <a:gd name="adj" fmla="val 4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" name=""/>
                  <p:cNvGrpSpPr/>
                  <p:nvPr/>
                </p:nvGrpSpPr>
                <p:grpSpPr>
                  <a:xfrm>
                    <a:off x="3460680" y="7058160"/>
                    <a:ext cx="3997440" cy="348480"/>
                    <a:chOff x="3460680" y="7058160"/>
                    <a:chExt cx="3997440" cy="348480"/>
                  </a:xfrm>
                </p:grpSpPr>
                <p:sp>
                  <p:nvSpPr>
                    <p:cNvPr id="23" name=""/>
                    <p:cNvSpPr/>
                    <p:nvPr/>
                  </p:nvSpPr>
                  <p:spPr>
                    <a:xfrm>
                      <a:off x="3460680" y="7058160"/>
                      <a:ext cx="3997440" cy="32832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4064760" y="7058160"/>
                      <a:ext cx="2788920" cy="3484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eili Zhang, FlyBase - Harv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5920" indent="-3859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1" marL="851040" indent="-3445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2" marL="1293840" indent="-2746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3" marL="1758960" indent="-3445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4" marL="2157480" indent="-282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5" marL="215748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6" marL="215748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1058400"/>
            <a:ext cx="920268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Comparative Genome Annotation of </a:t>
            </a:r>
            <a:r>
              <a:rPr b="1" i="1" lang="en-GB" sz="4000" spc="-1" strike="noStrike">
                <a:solidFill>
                  <a:srgbClr val="ffff00"/>
                </a:solidFill>
                <a:latin typeface="Arial Black"/>
              </a:rPr>
              <a:t>Drosophila</a:t>
            </a: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GB" sz="4000" spc="-1" strike="noStrike">
                <a:solidFill>
                  <a:srgbClr val="ffff00"/>
                </a:solidFill>
                <a:latin typeface="Arial Black"/>
              </a:rPr>
              <a:t>pseudoobscura</a:t>
            </a: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 and Its Implementation in chado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93760" y="1015920"/>
            <a:ext cx="77724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4063" t="23125" r="2813" b="17500"/>
          <a:stretch/>
        </p:blipFill>
        <p:spPr>
          <a:xfrm>
            <a:off x="1025640" y="91908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87800" y="743040"/>
            <a:ext cx="37465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7760" y="1920960"/>
            <a:ext cx="8670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FlyBase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Baylor College of 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Medic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ill Gelba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ephen Rich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rian Bettencou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Yue Li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Pavel Hradecky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Kim Worl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an Letovsky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ui C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avid Emme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George Weinst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veryone at FlyBase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ichard Gib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69960" y="1450800"/>
            <a:ext cx="7315200" cy="551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68320" y="755640"/>
            <a:ext cx="658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 phylogen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7880" y="704880"/>
            <a:ext cx="9036000" cy="65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riven by orthology to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melanogaster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(Dmel) genome (over 13000 annotated genes with 19000 protein isofo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cused on protein-coding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BLASTN: query: 13659 Dmel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roteins                      subject: 8242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D. pseudoobscur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(Dpse)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GS                       cont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ynteny, arm-ness conservation of fly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btained genomic locations of 12179 putative orthologs to Dmel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8240" y="650880"/>
            <a:ext cx="8525160" cy="54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 (continu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: Genscan, Twinscan, Genewise (totally 53691 predic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6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 filtering: reciprocal best blastp hits (10515 predictions selec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6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Looking for overlap between predictions and TBLASTN ortholog calls, 9946 significantly overlapped predictions were promoted to be gene model anno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08000" y="558720"/>
            <a:ext cx="8237520" cy="61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 (continu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apping of Dpse genes FlyBase Curated from litera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~500 FlyBase curated Dpse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34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ne most representative GenBank                     ac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2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ambiguous hits against Dpse WGS               cont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96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erged with TBLASTN ortholog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mported into Dpse annotation set as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tic loci on the gen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5240" y="2149560"/>
            <a:ext cx="848844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Evidence data for Dpse annot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LASTZ HSPs between Dmel and Dpse: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34,5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pse EST alignments: 34,611 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35080" y="1065240"/>
            <a:ext cx="80694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Implementation of Comparative Data in Cha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ata ob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86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rthologous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yntenic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LASTZ H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35080" y="981000"/>
            <a:ext cx="7788240" cy="58834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6800" y="3100320"/>
            <a:ext cx="1755720" cy="180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22440" y="4395960"/>
            <a:ext cx="1006560" cy="144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6800" y="3086280"/>
            <a:ext cx="1755720" cy="144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19480" y="3414600"/>
            <a:ext cx="27432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9520" y="3821040"/>
            <a:ext cx="140832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17640" y="3417840"/>
            <a:ext cx="22860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24160" y="3421080"/>
            <a:ext cx="50328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40480" y="3387600"/>
            <a:ext cx="27468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34280" y="3427560"/>
            <a:ext cx="54936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69160" y="3394080"/>
            <a:ext cx="44748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74760" y="5514840"/>
            <a:ext cx="822240" cy="180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13280" y="3106800"/>
            <a:ext cx="2286000" cy="144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6200" y="5878440"/>
            <a:ext cx="82260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79440" y="6205680"/>
            <a:ext cx="822240" cy="144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3400" y="5376960"/>
            <a:ext cx="43513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Times New Roman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feature_relationship (subj-&gt;ob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0760" y="4398840"/>
            <a:ext cx="1143000" cy="180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54760" y="3822840"/>
            <a:ext cx="188280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79440" y="6540480"/>
            <a:ext cx="822240" cy="1440"/>
          </a:xfrm>
          <a:prstGeom prst="line">
            <a:avLst/>
          </a:prstGeom>
          <a:ln w="367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7920" y="341964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82800" y="342108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68960" y="3460680"/>
            <a:ext cx="339840" cy="37008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0560" y="342756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98960" y="3432240"/>
            <a:ext cx="326880" cy="355680"/>
          </a:xfrm>
          <a:custGeom>
            <a:avLst/>
            <a:gdLst/>
            <a:ahLst/>
            <a:rect l="l" t="t" r="r" b="b"/>
            <a:pathLst>
              <a:path w="909" h="989">
                <a:moveTo>
                  <a:pt x="908" y="0"/>
                </a:moveTo>
                <a:lnTo>
                  <a:pt x="592" y="395"/>
                </a:lnTo>
                <a:lnTo>
                  <a:pt x="197" y="672"/>
                </a:lnTo>
                <a:lnTo>
                  <a:pt x="0" y="988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7120" y="3471840"/>
            <a:ext cx="326880" cy="355680"/>
          </a:xfrm>
          <a:custGeom>
            <a:avLst/>
            <a:gdLst/>
            <a:ahLst/>
            <a:rect l="l" t="t" r="r" b="b"/>
            <a:pathLst>
              <a:path w="909" h="989">
                <a:moveTo>
                  <a:pt x="908" y="0"/>
                </a:moveTo>
                <a:lnTo>
                  <a:pt x="592" y="395"/>
                </a:lnTo>
                <a:lnTo>
                  <a:pt x="197" y="672"/>
                </a:lnTo>
                <a:lnTo>
                  <a:pt x="0" y="988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8800" y="3830760"/>
            <a:ext cx="341280" cy="541080"/>
          </a:xfrm>
          <a:custGeom>
            <a:avLst/>
            <a:gdLst/>
            <a:ahLst/>
            <a:rect l="l" t="t" r="r" b="b"/>
            <a:pathLst>
              <a:path w="949" h="1503">
                <a:moveTo>
                  <a:pt x="0" y="1502"/>
                </a:moveTo>
                <a:cubicBezTo>
                  <a:pt x="249" y="1074"/>
                  <a:pt x="737" y="819"/>
                  <a:pt x="869" y="316"/>
                </a:cubicBezTo>
                <a:lnTo>
                  <a:pt x="948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4040" y="3833640"/>
            <a:ext cx="341280" cy="541440"/>
          </a:xfrm>
          <a:custGeom>
            <a:avLst/>
            <a:gdLst/>
            <a:ahLst/>
            <a:rect l="l" t="t" r="r" b="b"/>
            <a:pathLst>
              <a:path w="949" h="1504">
                <a:moveTo>
                  <a:pt x="0" y="1503"/>
                </a:moveTo>
                <a:cubicBezTo>
                  <a:pt x="249" y="1075"/>
                  <a:pt x="737" y="819"/>
                  <a:pt x="869" y="316"/>
                </a:cubicBezTo>
                <a:lnTo>
                  <a:pt x="948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87680" y="2435400"/>
            <a:ext cx="11379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p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4200" y="2438280"/>
            <a:ext cx="11383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m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300400"/>
            <a:ext cx="3413160" cy="792000"/>
          </a:xfrm>
          <a:custGeom>
            <a:avLst/>
            <a:gdLst/>
            <a:ahLst/>
            <a:rect l="l" t="t" r="r" b="b"/>
            <a:pathLst>
              <a:path w="9481" h="2201">
                <a:moveTo>
                  <a:pt x="119" y="2111"/>
                </a:moveTo>
                <a:cubicBezTo>
                  <a:pt x="155" y="1809"/>
                  <a:pt x="0" y="1438"/>
                  <a:pt x="554" y="1259"/>
                </a:cubicBezTo>
                <a:cubicBezTo>
                  <a:pt x="1026" y="1107"/>
                  <a:pt x="1358" y="792"/>
                  <a:pt x="1778" y="554"/>
                </a:cubicBezTo>
                <a:cubicBezTo>
                  <a:pt x="2142" y="347"/>
                  <a:pt x="2538" y="174"/>
                  <a:pt x="3002" y="113"/>
                </a:cubicBezTo>
                <a:cubicBezTo>
                  <a:pt x="3394" y="61"/>
                  <a:pt x="3792" y="88"/>
                  <a:pt x="4188" y="83"/>
                </a:cubicBezTo>
                <a:cubicBezTo>
                  <a:pt x="4595" y="79"/>
                  <a:pt x="5014" y="149"/>
                  <a:pt x="5412" y="83"/>
                </a:cubicBezTo>
                <a:cubicBezTo>
                  <a:pt x="5920" y="0"/>
                  <a:pt x="6146" y="284"/>
                  <a:pt x="6598" y="348"/>
                </a:cubicBezTo>
                <a:cubicBezTo>
                  <a:pt x="7116" y="422"/>
                  <a:pt x="7442" y="796"/>
                  <a:pt x="7861" y="1024"/>
                </a:cubicBezTo>
                <a:cubicBezTo>
                  <a:pt x="8285" y="1254"/>
                  <a:pt x="8566" y="1608"/>
                  <a:pt x="9046" y="1788"/>
                </a:cubicBezTo>
                <a:lnTo>
                  <a:pt x="9401" y="2082"/>
                </a:lnTo>
                <a:lnTo>
                  <a:pt x="9480" y="220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97120" y="3106800"/>
            <a:ext cx="271440" cy="711000"/>
          </a:xfrm>
          <a:custGeom>
            <a:avLst/>
            <a:gdLst/>
            <a:ahLst/>
            <a:rect l="l" t="t" r="r" b="b"/>
            <a:pathLst>
              <a:path w="754" h="1976">
                <a:moveTo>
                  <a:pt x="0" y="1975"/>
                </a:moveTo>
                <a:cubicBezTo>
                  <a:pt x="422" y="1687"/>
                  <a:pt x="379" y="1138"/>
                  <a:pt x="713" y="790"/>
                </a:cubicBezTo>
                <a:lnTo>
                  <a:pt x="713" y="395"/>
                </a:lnTo>
                <a:lnTo>
                  <a:pt x="753" y="0"/>
                </a:lnTo>
                <a:lnTo>
                  <a:pt x="753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12000" y="3108240"/>
            <a:ext cx="271440" cy="711360"/>
          </a:xfrm>
          <a:custGeom>
            <a:avLst/>
            <a:gdLst/>
            <a:ahLst/>
            <a:rect l="l" t="t" r="r" b="b"/>
            <a:pathLst>
              <a:path w="754" h="1976">
                <a:moveTo>
                  <a:pt x="0" y="1975"/>
                </a:moveTo>
                <a:cubicBezTo>
                  <a:pt x="422" y="1687"/>
                  <a:pt x="379" y="1138"/>
                  <a:pt x="713" y="790"/>
                </a:cubicBezTo>
                <a:lnTo>
                  <a:pt x="713" y="395"/>
                </a:lnTo>
                <a:lnTo>
                  <a:pt x="753" y="0"/>
                </a:lnTo>
                <a:lnTo>
                  <a:pt x="753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5080" y="1859040"/>
            <a:ext cx="29862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utative_ortholog_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5800" y="3300480"/>
            <a:ext cx="16830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art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02160" y="3911760"/>
            <a:ext cx="1917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roducedb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4640" y="1128600"/>
            <a:ext cx="47214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rthology Relat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93760" y="1052640"/>
            <a:ext cx="77724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